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D9B-776B-4705-8D5A-4BA28299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98C6-3227-43FB-A0FB-680ED985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50AA-AC5F-48B4-8E3A-62A7F5B5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120-97A2-436B-B911-62CA4515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926-FE90-410F-BD03-60310E4F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8FF-B6D5-48BD-AB0A-2D390BAF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8EE-6F74-4554-8886-4A5A91FD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2AD-AF7F-4AD4-9ECF-C77CB41E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83D-4500-4783-8E91-B948C02C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2CD-9B6C-4D0E-A7B3-4E450809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C2B9-EE62-4F1F-94C7-0FCAFBD9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1E9-E5C8-4E6B-B335-95CC8391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7DE8-7953-4290-9C5B-A4859A135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hyperlink" Target="http://www.freeplaymusic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609480"/>
            <a:ext cx="7238880" cy="5639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478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comic"/>
              </a:rPr>
              <a:t>THE DOG AND THE SHAD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5400000"/>
              </a:gradFill>
              <a:latin typeface="comic"/>
              <a:ea typeface="comic"/>
            </a:endParaRPr>
          </a:p>
        </p:txBody>
      </p:sp>
      <p:sp>
        <p:nvSpPr>
          <p:cNvPr id="42" name=""/>
          <p:cNvSpPr/>
          <p:nvPr/>
        </p:nvSpPr>
        <p:spPr>
          <a:xfrm>
            <a:off x="7162920" y="5181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82920" y="2997360"/>
            <a:ext cx="1712880" cy="213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1427040" cy="1042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819520" y="2133720"/>
            <a:ext cx="83808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3505320"/>
            <a:ext cx="26668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ed on 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/4/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80880"/>
            <a:ext cx="81532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0492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</a:rPr>
              <a:t>GRASP AT THE SHADOW LOSE THE SUBSATANCE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CHARACT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SH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86400" y="1219320"/>
            <a:ext cx="1712880" cy="2139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10080" y="4191120"/>
            <a:ext cx="18147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"/>
              </a:rPr>
              <a:t>Dog and the shad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A DOG, crossing a bridge over a stream with a piece of flesh in his mouth, saw his own shadow in the water and took it for that of another Dog, with a piece of meat double his own in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1712880" cy="213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62320" y="5334120"/>
            <a:ext cx="1427040" cy="1042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05520" y="4876920"/>
            <a:ext cx="1814400" cy="1708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781680" y="5105520"/>
            <a:ext cx="2057400" cy="1503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4114800"/>
            <a:ext cx="1676160" cy="914400"/>
          </a:xfrm>
          <a:prstGeom prst="wedgeRectCallout">
            <a:avLst>
              <a:gd name="adj1" fmla="val -43518"/>
              <a:gd name="adj2" fmla="val 70000"/>
            </a:avLst>
          </a:prstGeom>
          <a:gradFill rotWithShape="0">
            <a:gsLst>
              <a:gs pos="0">
                <a:srgbClr val="3333ff"/>
              </a:gs>
              <a:gs pos="100000">
                <a:srgbClr val="a5f9ad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T!!!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He immediately let go of his own, and fiercely attacked the other Dog to get his larger piece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1636560" cy="2139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1427040" cy="1042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05520" y="4952880"/>
            <a:ext cx="1814400" cy="1708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705720" y="5257800"/>
            <a:ext cx="1981080" cy="1447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62720" y="3352680"/>
            <a:ext cx="2666880" cy="914400"/>
          </a:xfrm>
          <a:prstGeom prst="wedgeRectCallout">
            <a:avLst>
              <a:gd name="adj1" fmla="val -43518"/>
              <a:gd name="adj2" fmla="val 70000"/>
            </a:avLst>
          </a:prstGeom>
          <a:gradFill rotWithShape="0">
            <a:gsLst>
              <a:gs pos="0">
                <a:srgbClr val="3333ff"/>
              </a:gs>
              <a:gs pos="100000">
                <a:srgbClr val="a3fba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HAHA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He thus lost both: that which he grasped at in the water, because it was a shadow; and his own, because the stream swept it a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0134720" cy="340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4718160"/>
            <a:ext cx="1636560" cy="2139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00800" y="5181480"/>
            <a:ext cx="1427040" cy="1043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00200" y="4724280"/>
            <a:ext cx="1219320" cy="762120"/>
          </a:xfrm>
          <a:prstGeom prst="wedgeRectCallout">
            <a:avLst>
              <a:gd name="adj1" fmla="val -43518"/>
              <a:gd name="adj2" fmla="val 70000"/>
            </a:avLst>
          </a:prstGeom>
          <a:gradFill rotWithShape="0">
            <a:gsLst>
              <a:gs pos="0">
                <a:srgbClr val="3333ff"/>
              </a:gs>
              <a:gs pos="100000">
                <a:srgbClr val="a3fbab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5:58:45Z</dcterms:created>
  <dc:creator>install</dc:creator>
  <dc:description/>
  <dc:language>en-US</dc:language>
  <cp:lastModifiedBy>install</cp:lastModifiedBy>
  <dcterms:modified xsi:type="dcterms:W3CDTF">2011-05-09T15:53:58Z</dcterms:modified>
  <cp:revision>11</cp:revision>
  <dc:subject/>
  <dc:title>Slide 1</dc:title>
</cp:coreProperties>
</file>